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951-988C-4CD3-A7F2-4849A721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878-637B-4ADC-8372-A6EBBD18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05D-2A4E-48AC-9030-E79D1197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157-815B-41E4-A8D5-576D2798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47642-1D21-432A-8817-794AF2A1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5BD88-A895-423E-BE77-5D084B98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B38F2-2F3B-4D5F-B7E8-627D2EF4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1EB46-2627-4217-9824-948B9C1B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1E926-8A5A-4489-89CA-74272CFE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0EA1D-587A-4AB9-B5C4-488CD227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89940-4838-4F91-8C72-88FE47B2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B41-F41A-4333-AD64-89760F7B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374DC-9290-4A11-99C5-B7C48387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18095-08F6-44F7-8F4C-A189BC00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53625-90FC-4ECE-B246-C15D9091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92A2E-EDBD-484C-8869-71CFF0D6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F5C7E-2DDB-4813-B940-D0FA18D0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399-6BCF-4ADA-95EA-947DA7E9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C65-04B1-4D3F-AA2B-9951FDD0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57F-E999-4CAC-BF9F-698DE8D3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214-9D54-42EB-AFB7-199B95DD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A11-C63A-440E-A48E-21DDFDEE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D57-EF16-4194-8291-E690D8F8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07F-B2BE-41E5-B1EF-A67AEDA3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18AF-37BB-4494-AC66-F966B1C5D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AAD8-AF00-4CEE-8FC7-16A088707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777240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cur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3818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305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84872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291960"/>
            <a:ext cx="8076960" cy="388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5894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7696440" cy="56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31:43Z</dcterms:created>
  <dc:creator>abeason</dc:creator>
  <dc:description/>
  <dc:language>en-US</dc:language>
  <cp:lastModifiedBy>abeason</cp:lastModifiedBy>
  <dcterms:modified xsi:type="dcterms:W3CDTF">2009-02-17T14:35:18Z</dcterms:modified>
  <cp:revision>1</cp:revision>
  <dc:subject/>
  <dc:title>Slide 1</dc:title>
</cp:coreProperties>
</file>